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145-379B-4696-B867-B6B9AD63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392-1268-430E-9AD0-49180C8A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C50-7121-430A-B5ED-C9EE8CD2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028-62D4-457F-9A5B-E720CC98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A38-7A25-4CE4-A24D-2C93AE34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DAE-96C8-4671-81E1-17F7F9F2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A22-A836-4FCE-9495-4EB4DEE4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B81-2E8F-41A1-BF03-4C911C97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764-1993-4F75-9B63-17E49FD4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4DA-497D-4046-B8F4-B3DC94D2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3D5-B9E5-45AD-A4E1-03442191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ACA-7ED6-4859-820C-CA760DFD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A844-0108-4188-934A-A54D21373E99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Bradley Hand ITC"/>
              </a:rPr>
              <a:t>Vacanta placut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5444640"/>
            <a:ext cx="8373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Bradley Hand ITC"/>
              </a:rPr>
              <a:t>…</a:t>
            </a:r>
            <a:r>
              <a:rPr b="1" lang="en-US" sz="3200" spc="-1" strike="noStrike">
                <a:solidFill>
                  <a:srgbClr val="ff99ff"/>
                </a:solidFill>
                <a:latin typeface="Bradley Hand ITC"/>
              </a:rPr>
              <a:t>caci urmeaza clasa a VI-a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2.89017E-007 L -0.30712 2.89017E-007 E">
                                      <p:cBhvr>
                                        <p:cTn id="29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68 -0.00925 0.0059 -0.01041 0.01423 -0.0148 C 0.02187 -0.02474 0.02465 -0.02729 0.03489 -0.03168 C 0.04843 -0.04486 0.06441 -0.05411 0.07777 -0.06752 C 0.09305 -0.08278 0.10573 -0.10035 0.11909 -0.11838 C 0.12552 -0.12717 0.13229 -0.13827 0.13958 -0.1459 C 0.14218 -0.14867 0.14479 -0.15168 0.14757 -0.15422 C 0.14965 -0.15607 0.15208 -0.15653 0.15399 -0.15862 C 0.16823 -0.17341 0.15625 -0.1637 0.16666 -0.17758 C 0.171 -0.18336 0.17656 -0.18659 0.1809 -0.19237 C 0.18698 -0.20047 0.19236 -0.20971 0.19843 -0.21781 C 0.20416 -0.22544 0.20382 -0.22151 0.20798 -0.22821 C 0.21354 -0.237 0.21823 -0.24509 0.22534 -0.25156 C 0.23281 -0.26636 0.24149 -0.27885 0.25069 -0.2918 C 0.26007 -0.30497 0.2658 -0.32232 0.27465 -0.33619 C 0.28298 -0.34914 0.29305 -0.36162 0.3 -0.37619 C 0.30121 -0.37896 0.30173 -0.3822 0.30312 -0.38474 C 0.30451 -0.38729 0.30659 -0.38867 0.30798 -0.39099 C 0.3092 -0.39307 0.31007 -0.39538 0.31111 -0.39746 C 0.31302 -0.41041 0.3158 -0.41503 0.31736 -0.42914 C 0.31788 -0.44671 0.31909 -0.46428 0.31909 -0.48185 C 0.31909 -0.49364 0.31614 -0.50451 0.31423 -0.51584 C 0.30972 -0.54289 0.3052 -0.5674 0.29045 -0.58775 C 0.28836 -0.59584 0.28472 -0.5963 0.2809 -0.60255 C 0.27517 -0.61203 0.26823 -0.62613 0.26024 -0.63214 C 0.2559 -0.63538 0.24652 -0.63815 0.24132 -0.64047 C 0.23715 -0.64555 0.23073 -0.64879 0.22534 -0.6511 C 0.22118 -0.65295 0.21267 -0.65526 0.21267 -0.65526 C 0.19895 -0.65388 0.18472 -0.65341 0.17135 -0.64902 C 0.15573 -0.64995 0.13819 -0.65318 0.12222 -0.65318 L 0.13177 -0.64694 L 0.12222 -0.65734 E">
                                      <p:cBhvr>
                                        <p:cTn id="3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gi"/>
              </a:rPr>
              <a:t>Si nu uita  ca fara vacan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8920" y="6248160"/>
            <a:ext cx="8147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gi"/>
              </a:rPr>
              <a:t>Nu am mai fi copii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3743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9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stellar"/>
              </a:rPr>
              <a:t>Si ce frumos este sa fii copil!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33640" y="2060640"/>
            <a:ext cx="2901960" cy="3095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2801880" cy="2801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91240" y="24922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9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7:03:58Z</dcterms:created>
  <dc:creator>x</dc:creator>
  <dc:description/>
  <dc:language>en-US</dc:language>
  <cp:lastModifiedBy>lau</cp:lastModifiedBy>
  <dcterms:modified xsi:type="dcterms:W3CDTF">2008-05-04T11:03:52Z</dcterms:modified>
  <cp:revision>4</cp:revision>
  <dc:subject/>
  <dc:title>Diapozitivul 1</dc:title>
</cp:coreProperties>
</file>